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146-3FC1-4C65-8D6B-F0509F20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4AE-1044-4208-B6FD-4C52267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8F4-3AE6-4301-A831-4E168397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E9D-A378-42DA-AE52-B3375997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E148-82E2-4CF1-87A8-8ABF6E3E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1D6-715B-4C0D-BC37-9707168C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2E45-5258-4A7A-ADCE-18B6F63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CA8D-8CB4-4E98-9B6D-B1E150B0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CE21-CF21-485B-AE3E-94E3BA9A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98D3-3C0E-4779-9858-CACC8A0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4710-7579-48EF-9859-793993A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E7E-1105-477D-93CD-B35F1327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08B2-C840-4E28-9617-AFE04C9E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808-1FBC-4988-B8B3-870462C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9B95-F9EA-4C10-A936-B5CB0FC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858D-AEA1-418D-81E7-BA471508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BCA-818C-414E-8711-76F4EA5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709-B591-44C6-947A-EE19D7A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BCC-8CF5-4248-934B-B018872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FC0-5627-4B70-B92F-F4A2B1FE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341-696F-4314-87CB-6C912DD1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704-07F1-4621-B7B1-90F5133C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3C5-00C7-4533-A8B9-3D5E04B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2CF-C597-485B-89E4-22987DC2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F012-4189-4E08-A0D9-6D86742E0DC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C151-B6A1-4B8E-8951-1C06B8B13112}" type="slidenum">
              <a:rPr b="0" lang="en-A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cffff"/>
                </a:solidFill>
                <a:latin typeface="Tahoma"/>
              </a:rPr>
              <a:t>Skeletal System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Structure of a long bone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26" descr="long bone 3"/>
          <p:cNvPicPr/>
          <p:nvPr/>
        </p:nvPicPr>
        <p:blipFill>
          <a:blip r:embed="rId1"/>
          <a:stretch/>
        </p:blipFill>
        <p:spPr>
          <a:xfrm>
            <a:off x="685800" y="85680"/>
            <a:ext cx="769608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long bone 2"/>
          <p:cNvPicPr/>
          <p:nvPr/>
        </p:nvPicPr>
        <p:blipFill>
          <a:blip r:embed="rId1"/>
          <a:stretch/>
        </p:blipFill>
        <p:spPr>
          <a:xfrm>
            <a:off x="1752480" y="0"/>
            <a:ext cx="53341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ccffff"/>
                </a:solidFill>
                <a:latin typeface="Tahoma"/>
              </a:rPr>
              <a:t>Name the following bones !!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skeleton 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92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990720" y="762120"/>
            <a:ext cx="9144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90720" y="1371600"/>
            <a:ext cx="53316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3657600"/>
            <a:ext cx="3808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4800600"/>
            <a:ext cx="6858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657600" y="2666880"/>
            <a:ext cx="45720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276720" y="2971800"/>
            <a:ext cx="30456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00400" y="3429000"/>
            <a:ext cx="7621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819520" y="3886200"/>
            <a:ext cx="3808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276720" y="4114800"/>
            <a:ext cx="6858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886200" y="4343400"/>
            <a:ext cx="5335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572000" y="4419720"/>
            <a:ext cx="30492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334120" y="4495680"/>
            <a:ext cx="45720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6324480" y="4495680"/>
            <a:ext cx="4572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6934320" y="4724280"/>
            <a:ext cx="4572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7543800" y="4876920"/>
            <a:ext cx="38088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8001000" y="4724280"/>
            <a:ext cx="533520" cy="152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8458200" y="4876920"/>
            <a:ext cx="6858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keleton 3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The skeleton</a:t>
            </a:r>
            <a:br>
              <a:rPr sz="4400"/>
            </a:b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and</a:t>
            </a:r>
            <a:br>
              <a:rPr sz="4400"/>
            </a:b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Anatomical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eleton 1"/>
          <p:cNvPicPr/>
          <p:nvPr/>
        </p:nvPicPr>
        <p:blipFill>
          <a:blip r:embed="rId1"/>
          <a:stretch/>
        </p:blipFill>
        <p:spPr>
          <a:xfrm>
            <a:off x="3048120" y="609480"/>
            <a:ext cx="319248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H="1">
            <a:off x="2590560" y="1523880"/>
            <a:ext cx="114300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8"/>
          <p:cNvSpPr/>
          <p:nvPr/>
        </p:nvSpPr>
        <p:spPr>
          <a:xfrm>
            <a:off x="6477120" y="762120"/>
            <a:ext cx="0" cy="556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3657600" y="380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286000" y="1447920"/>
            <a:ext cx="129528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76520" y="3581280"/>
            <a:ext cx="10666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2286000" y="304920"/>
            <a:ext cx="9907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343400" y="457200"/>
            <a:ext cx="914400" cy="152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6172200" y="304920"/>
            <a:ext cx="99072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6705720" y="83808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6629400" y="6248520"/>
            <a:ext cx="1143000" cy="2286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keleton 1"/>
          <p:cNvPicPr/>
          <p:nvPr/>
        </p:nvPicPr>
        <p:blipFill>
          <a:blip r:embed="rId1"/>
          <a:stretch/>
        </p:blipFill>
        <p:spPr>
          <a:xfrm>
            <a:off x="3048120" y="609480"/>
            <a:ext cx="319248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Line 3"/>
          <p:cNvSpPr/>
          <p:nvPr/>
        </p:nvSpPr>
        <p:spPr>
          <a:xfrm flipH="1">
            <a:off x="2590560" y="1523880"/>
            <a:ext cx="114300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14600" y="1295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PROX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6520" y="3505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DIS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6477120" y="762120"/>
            <a:ext cx="0" cy="556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629400" y="685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SUPER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629400" y="6019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3657600" y="3808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590920" y="380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19720" y="380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019920" y="380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Types of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ong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hort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lat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rregular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1. Long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ound in limbs (legs, ar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rve as levers for mo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reater length than wid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stly compact b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long_bone"/>
          <p:cNvPicPr/>
          <p:nvPr/>
        </p:nvPicPr>
        <p:blipFill>
          <a:blip r:embed="rId1"/>
          <a:stretch/>
        </p:blipFill>
        <p:spPr>
          <a:xfrm>
            <a:off x="4952880" y="1600200"/>
            <a:ext cx="3757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2. Short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ery strong but have less movement (carpal and tarsal bones or foo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arly equal in length and wid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stly spongy bone with an outer of compact b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short%20bone"/>
          <p:cNvPicPr/>
          <p:nvPr/>
        </p:nvPicPr>
        <p:blipFill>
          <a:blip r:embed="rId1"/>
          <a:stretch/>
        </p:blipFill>
        <p:spPr>
          <a:xfrm>
            <a:off x="4876920" y="1600200"/>
            <a:ext cx="2660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3. Flat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Usually th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wo layers of compact bone covering a thin layer of spongy b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vide protection and a large area for muscle attach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.G. Cranium, sternum and ri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sternum"/>
          <p:cNvPicPr/>
          <p:nvPr/>
        </p:nvPicPr>
        <p:blipFill>
          <a:blip r:embed="rId1"/>
          <a:stretch/>
        </p:blipFill>
        <p:spPr>
          <a:xfrm>
            <a:off x="4724280" y="1981080"/>
            <a:ext cx="1555920" cy="229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skull"/>
          <p:cNvPicPr/>
          <p:nvPr/>
        </p:nvPicPr>
        <p:blipFill>
          <a:blip r:embed="rId2"/>
          <a:stretch/>
        </p:blipFill>
        <p:spPr>
          <a:xfrm>
            <a:off x="4800600" y="426708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ffff"/>
                </a:solidFill>
                <a:latin typeface="Tahoma"/>
              </a:rPr>
              <a:t>4. Irregular b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ainly provide protection and sup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.G. Pubis and vertebr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vertebrea"/>
          <p:cNvPicPr/>
          <p:nvPr/>
        </p:nvPicPr>
        <p:blipFill>
          <a:blip r:embed="rId1"/>
          <a:stretch/>
        </p:blipFill>
        <p:spPr>
          <a:xfrm>
            <a:off x="5181480" y="137160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elvis-w"/>
          <p:cNvPicPr/>
          <p:nvPr/>
        </p:nvPicPr>
        <p:blipFill>
          <a:blip r:embed="rId2"/>
          <a:stretch/>
        </p:blipFill>
        <p:spPr>
          <a:xfrm>
            <a:off x="4952880" y="4267080"/>
            <a:ext cx="28195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2:15:03Z</dcterms:created>
  <dc:creator>Warrick Batrall</dc:creator>
  <dc:description/>
  <dc:language>en-US</dc:language>
  <cp:lastModifiedBy>Lyn Clarkson</cp:lastModifiedBy>
  <dcterms:modified xsi:type="dcterms:W3CDTF">2009-10-20T21:57:31Z</dcterms:modified>
  <cp:revision>10</cp:revision>
  <dc:subject/>
  <dc:title>Skeletal System</dc:title>
</cp:coreProperties>
</file>